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breeze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A25-70F0-4630-9429-C110FE0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313-8D92-4914-B873-73630BE9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6A5-EFB3-4891-8CC8-D53802BD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B31-4ABF-4AA5-8091-F6F76311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7EA-3ED6-4C2B-AEDF-5C5CEEE6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7D5-B2FD-46D1-B1AA-82B893D9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C05-0FC9-4C5B-AB65-8CFC0FC8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8BA-6204-45BD-BFFF-4609791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520-6906-4CCE-BF1F-0D04A7E4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1F5-5732-4A31-BE51-0F08FB5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935-A8B6-4510-BA29-6CB4AAE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94D-03C3-4676-B385-3B8E0378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FE42-6DD4-4CCA-AEF9-F131D1C314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95280" y="2781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幼圆"/>
              </a:rPr>
              <a:t>三位数乘两位数笔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95280" y="47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ff"/>
                </a:solidFill>
                <a:latin typeface="Arial"/>
              </a:rPr>
              <a:t>青岛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979640" y="0"/>
            <a:ext cx="39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X56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79640" y="1268280"/>
            <a:ext cx="39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X99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你是一个合格的“医生”吗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2060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716360" y="2637000"/>
            <a:ext cx="252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 0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× 2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 7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6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9 5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19280" y="2619360"/>
            <a:ext cx="4032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 2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×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1 4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 8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1 2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6 0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45"/>
          <p:cNvPicPr/>
          <p:nvPr/>
        </p:nvPicPr>
        <p:blipFill>
          <a:blip r:embed="rId1"/>
          <a:stretch/>
        </p:blipFill>
        <p:spPr>
          <a:xfrm>
            <a:off x="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03" name="Line 9"/>
          <p:cNvSpPr/>
          <p:nvPr/>
        </p:nvSpPr>
        <p:spPr>
          <a:xfrm flipV="1">
            <a:off x="4859280" y="5300280"/>
            <a:ext cx="2665440" cy="7308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2700360" y="90792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本课小结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835280" y="270828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本节课我们主要学习了哪些内容？同桌之间互相讨论一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124000" y="333360"/>
            <a:ext cx="407664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教学目标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835280" y="2708280"/>
            <a:ext cx="532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ff"/>
                </a:solidFill>
                <a:latin typeface="Arial"/>
              </a:rPr>
              <a:t>本节课我们主要来学习三位数乘两位数的笔算，同学们要掌握列竖式计算的方法，能够列竖式计算三位数乘两位数的计算题，并且可以解决相关的应用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908000" y="1341360"/>
            <a:ext cx="53992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      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      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>
            <a:off x="1332000" y="3716280"/>
            <a:ext cx="50328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1332000" y="3716280"/>
            <a:ext cx="50328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755640" y="4941720"/>
            <a:ext cx="712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5580000" y="2565360"/>
            <a:ext cx="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 flipV="1">
            <a:off x="3419640" y="2492280"/>
            <a:ext cx="2016000" cy="115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3276720" y="2565000"/>
            <a:ext cx="1942920" cy="115092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 flipV="1">
            <a:off x="3059280" y="2565000"/>
            <a:ext cx="72720" cy="107964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2556000" y="47628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两位数乘两位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00000" y="62064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你会算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26920" y="2060640"/>
            <a:ext cx="6193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403×23 </a:t>
            </a:r>
            <a:r>
              <a:rPr b="1" lang="en-US" sz="129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240×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836640"/>
            <a:ext cx="421164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4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×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12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8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92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067280" y="836640"/>
            <a:ext cx="439236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  <a:ea typeface="华文新魏"/>
              </a:rPr>
              <a:t> 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2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× 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72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81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372360" y="1916280"/>
            <a:ext cx="0" cy="360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6300720" y="1844640"/>
            <a:ext cx="0" cy="3889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2843280" cy="166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059280" y="549360"/>
            <a:ext cx="2808000" cy="164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227640" y="476280"/>
            <a:ext cx="2916360" cy="171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971640" y="38606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每个花坛需要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198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盆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84360" y="50133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摆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个花坛需要多少盆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8893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1"/>
          <p:cNvGrpSpPr/>
          <p:nvPr/>
        </p:nvGrpSpPr>
        <p:grpSpPr>
          <a:xfrm>
            <a:off x="539640" y="1628640"/>
            <a:ext cx="3348000" cy="3049200"/>
            <a:chOff x="539640" y="1628640"/>
            <a:chExt cx="3348000" cy="3049200"/>
          </a:xfrm>
        </p:grpSpPr>
        <p:sp>
          <p:nvSpPr>
            <p:cNvPr id="67" name="Text Box 5"/>
            <p:cNvSpPr/>
            <p:nvPr/>
          </p:nvSpPr>
          <p:spPr>
            <a:xfrm>
              <a:off x="1079280" y="1628640"/>
              <a:ext cx="280836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 8 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 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9"/>
            <p:cNvGrpSpPr/>
            <p:nvPr/>
          </p:nvGrpSpPr>
          <p:grpSpPr>
            <a:xfrm>
              <a:off x="863280" y="2924280"/>
              <a:ext cx="360360" cy="431640"/>
              <a:chOff x="863280" y="2924280"/>
              <a:chExt cx="360360" cy="431640"/>
            </a:xfrm>
          </p:grpSpPr>
          <p:sp>
            <p:nvSpPr>
              <p:cNvPr id="69" name="Line 6"/>
              <p:cNvSpPr/>
              <p:nvPr/>
            </p:nvSpPr>
            <p:spPr>
              <a:xfrm>
                <a:off x="934920" y="2924280"/>
                <a:ext cx="21600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 flipH="1">
                <a:off x="863280" y="2924280"/>
                <a:ext cx="36036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10"/>
            <p:cNvSpPr/>
            <p:nvPr/>
          </p:nvSpPr>
          <p:spPr>
            <a:xfrm>
              <a:off x="539640" y="3573360"/>
              <a:ext cx="284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2"/>
          <p:cNvGrpSpPr/>
          <p:nvPr/>
        </p:nvGrpSpPr>
        <p:grpSpPr>
          <a:xfrm>
            <a:off x="4427640" y="1700280"/>
            <a:ext cx="3241440" cy="3049200"/>
            <a:chOff x="4427640" y="1700280"/>
            <a:chExt cx="3241440" cy="3049200"/>
          </a:xfrm>
        </p:grpSpPr>
        <p:sp>
          <p:nvSpPr>
            <p:cNvPr id="73" name="Text Box 11"/>
            <p:cNvSpPr/>
            <p:nvPr/>
          </p:nvSpPr>
          <p:spPr>
            <a:xfrm>
              <a:off x="4860720" y="1700280"/>
              <a:ext cx="280836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8 5 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 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2"/>
            <p:cNvGrpSpPr/>
            <p:nvPr/>
          </p:nvGrpSpPr>
          <p:grpSpPr>
            <a:xfrm>
              <a:off x="4644720" y="2924280"/>
              <a:ext cx="360360" cy="431640"/>
              <a:chOff x="4644720" y="2924280"/>
              <a:chExt cx="360360" cy="431640"/>
            </a:xfrm>
          </p:grpSpPr>
          <p:sp>
            <p:nvSpPr>
              <p:cNvPr id="75" name="Line 13"/>
              <p:cNvSpPr/>
              <p:nvPr/>
            </p:nvSpPr>
            <p:spPr>
              <a:xfrm>
                <a:off x="4716360" y="2924280"/>
                <a:ext cx="21600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 flipH="1">
                <a:off x="4644720" y="2924280"/>
                <a:ext cx="36036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Line 15"/>
            <p:cNvSpPr/>
            <p:nvPr/>
          </p:nvSpPr>
          <p:spPr>
            <a:xfrm>
              <a:off x="4427640" y="3573360"/>
              <a:ext cx="2842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9"/>
          <p:cNvGrpSpPr/>
          <p:nvPr/>
        </p:nvGrpSpPr>
        <p:grpSpPr>
          <a:xfrm>
            <a:off x="250920" y="3573360"/>
            <a:ext cx="3024000" cy="2625120"/>
            <a:chOff x="250920" y="3573360"/>
            <a:chExt cx="3024000" cy="2625120"/>
          </a:xfrm>
        </p:grpSpPr>
        <p:sp>
          <p:nvSpPr>
            <p:cNvPr id="79" name="Text Box 24"/>
            <p:cNvSpPr/>
            <p:nvPr/>
          </p:nvSpPr>
          <p:spPr>
            <a:xfrm>
              <a:off x="754200" y="3573360"/>
              <a:ext cx="22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 2 8 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5"/>
            <p:cNvSpPr/>
            <p:nvPr/>
          </p:nvSpPr>
          <p:spPr>
            <a:xfrm>
              <a:off x="250920" y="4437000"/>
              <a:ext cx="22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 6 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503280" y="5302080"/>
              <a:ext cx="27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8"/>
            <p:cNvSpPr/>
            <p:nvPr/>
          </p:nvSpPr>
          <p:spPr>
            <a:xfrm>
              <a:off x="754200" y="5373360"/>
              <a:ext cx="22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 9 0 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4"/>
          <p:cNvGrpSpPr/>
          <p:nvPr/>
        </p:nvGrpSpPr>
        <p:grpSpPr>
          <a:xfrm>
            <a:off x="3995640" y="3573360"/>
            <a:ext cx="3240000" cy="2625480"/>
            <a:chOff x="3995640" y="3573360"/>
            <a:chExt cx="3240000" cy="2625480"/>
          </a:xfrm>
        </p:grpSpPr>
        <p:sp>
          <p:nvSpPr>
            <p:cNvPr id="84" name="Text Box 30"/>
            <p:cNvSpPr/>
            <p:nvPr/>
          </p:nvSpPr>
          <p:spPr>
            <a:xfrm>
              <a:off x="4498920" y="3573360"/>
              <a:ext cx="252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 7 1 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1"/>
            <p:cNvSpPr/>
            <p:nvPr/>
          </p:nvSpPr>
          <p:spPr>
            <a:xfrm>
              <a:off x="3995640" y="4365720"/>
              <a:ext cx="252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 5 7 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2"/>
            <p:cNvSpPr/>
            <p:nvPr/>
          </p:nvSpPr>
          <p:spPr>
            <a:xfrm>
              <a:off x="4211640" y="523080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3"/>
            <p:cNvSpPr/>
            <p:nvPr/>
          </p:nvSpPr>
          <p:spPr>
            <a:xfrm>
              <a:off x="4211640" y="5373720"/>
              <a:ext cx="28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 4 2 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3880" y="1413000"/>
          <a:ext cx="6432840" cy="4236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860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价（元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（只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价（元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足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0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篮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it_11GO0H911042X1"/>
          <p:cNvPicPr/>
          <p:nvPr/>
        </p:nvPicPr>
        <p:blipFill>
          <a:blip r:embed="rId1"/>
          <a:stretch/>
        </p:blipFill>
        <p:spPr>
          <a:xfrm>
            <a:off x="395280" y="76500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u=3635168783,223575223&amp;gp=0"/>
          <p:cNvPicPr/>
          <p:nvPr/>
        </p:nvPicPr>
        <p:blipFill>
          <a:blip r:embed="rId2"/>
          <a:stretch/>
        </p:blipFill>
        <p:spPr>
          <a:xfrm>
            <a:off x="3492360" y="836640"/>
            <a:ext cx="151128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u=3901680290,231102434&amp;gp=6"/>
          <p:cNvPicPr/>
          <p:nvPr/>
        </p:nvPicPr>
        <p:blipFill>
          <a:blip r:embed="rId3"/>
          <a:stretch/>
        </p:blipFill>
        <p:spPr>
          <a:xfrm>
            <a:off x="6516720" y="836640"/>
            <a:ext cx="1778040" cy="1270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250920" y="2276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132000" y="234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227640" y="234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0" y="357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赵老师带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钱，要替学校购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同样的电话机，有多少种购买方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16:16Z</dcterms:created>
  <dc:creator/>
  <dc:description/>
  <cp:keywords/>
  <dc:language>en-US</dc:language>
  <cp:lastModifiedBy>Administrator</cp:lastModifiedBy>
  <dcterms:modified xsi:type="dcterms:W3CDTF">2015-02-18T11:38:22Z</dcterms:modified>
  <cp:revision>10</cp:revision>
  <dc:subject/>
  <dc:title>幻灯片 1</dc:title>
</cp:coreProperties>
</file>